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D4C-E77F-4131-BB95-965ADBD5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E15-F66F-4B11-9892-6BA4FF37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DF3-9C6D-45EF-A120-4FFE8BAD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090-F859-4699-A4F4-A76A4B24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F294-5589-4483-9659-CFB3765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145-4E9F-4D7F-90DF-1AF176F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A0E-313E-4C7E-A431-274DC4C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5FD8-8473-4170-AB78-079DEF9B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A49D-8A21-4121-B488-1D70BC54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60D-C8E6-436F-9304-2C6FF5E2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994F-CE92-4124-AF34-C0599E9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BFD-49E2-4717-9A2C-33561DD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7AC7-52A3-48E2-8246-9B406A7E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AFB-D493-430C-9281-373F61A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251-8ED2-4024-BC91-EAE9DC3B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B474-1514-45EA-B0A9-C1B72838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B159-8FB2-4F77-9BEA-F03D822F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2B2A7-372F-434F-BB4B-6B85093E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21F7A-CA62-44EE-9ACB-E51CA27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00444-80D6-4B06-A3C1-4B23DF0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050F6-70F6-4467-9EAC-2B232879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28E22-94F8-420B-9125-ABBEC1C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8C1-E0A3-442D-8279-EED6810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B865F-4CF2-40A9-806E-676B4FA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49166-6FE6-4EC9-B002-9887863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3E3FA-DA5C-476F-96A8-F9A12639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BB60D-24DA-455F-BB2E-91A31F1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8B036-8113-4FA7-A639-441E5B67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48E54-391B-4A93-86B7-2B60523B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D6304-F821-4E54-A35C-E21B72DD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6EE4-F40D-4E20-AF68-ECC48DD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46DD-8E2D-4D19-B4C3-C60E1DB9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4CC6-4C26-4FEC-A762-A3883A99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530-4A13-46B7-9CAF-E5E7AA3B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9EB0-E66A-4A68-8DCB-40B7F35E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0956-9830-46E5-938F-5E9188D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417A-419B-46D2-8735-939227B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F9DF-7A5A-4513-BD0A-7BC6127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C0D87-8AB2-40CF-B8F9-44CBFAE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CAD8-5F95-4F84-B73A-1B34ABE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0751-254B-47AF-992B-5A08169C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740B-AAA6-4B7B-9F28-D894CD4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2A0F-3091-42DA-8E74-EF7BD6E7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DC5D3-A52D-494A-B6FE-0657D551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46B-44F8-4344-B4DA-21038DD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DF721-49C0-4DF0-903F-D1CC0CF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A11D1-A717-47CB-BB3F-B0770C2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D50CF-0481-4F85-8F36-C5636215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3C6CB-D4E1-484D-92AE-BCBDD38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ED30B-0D4F-48DB-BFB7-CBC9A1E6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DD53D-4225-447C-A597-F497ACC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58E2A-C8A9-4280-981C-BA4653F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75A99-6B9B-4C1E-B1EC-7E88E6B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D6453-4A6B-481C-A0EB-441F5519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7EC98-4B76-44AA-9A23-04323C38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603-08DD-46D3-B926-1C0A6E4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6B50F-34F3-4415-A419-638ED3E1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75887-D6F5-45DC-8B3E-697F317C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BEF0D-5F61-4308-9E9E-0419A9E1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E3FBF-83E4-4516-9B69-C7BE5CE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B979B-2DDC-41D1-A0A7-CE6302F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4B35B-519C-4AE1-BEAA-29AFF04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41B8E-1896-4D33-818A-23AE644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89F21-8086-48BB-89F5-8321057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53BB6-05EC-4DD8-A34B-CBADE75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53B15-7B66-4A75-84F2-6FE3B048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181-407C-4C1C-9219-625CA3A9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48E59-2851-4D9C-BF99-AEC6779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79384-EFD8-4380-B037-91BE93FF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DA3B0-96A8-4ECE-8DE5-3F77BC40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01A35-F9F8-4BE7-9E38-21C13755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03014-AFEB-4653-A25C-1E665CA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1BC3D-FD84-40E3-85F1-61293087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217FB-637E-4B5A-899A-6378F408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42E5B-845B-4763-88FC-BAA42F2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17D3B-5BD0-4135-ACB4-EF42C1BF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0E53D-04DC-4103-A264-37C9D21B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BB2-4B86-463B-A93F-8441B66C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F4654-DA24-496F-BE3C-7803328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C654D-B2CA-4BE7-AF5F-C5D653D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C6484-A888-47C2-9B60-3BECB960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07EA4-E071-4A33-A844-A2784A3E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57EC7-8704-4E3D-82E2-A541E438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887-2C0A-4763-A7A0-AA771E2E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BCA-3DD7-4E0F-85B2-3AE9C27DFC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DA0B-E4C8-4F63-AC91-88ADBBAC35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644E-D936-41BA-864C-4C75FB30BE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5CC8-4B6D-406D-8DF5-8B059CFD62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B71-E8D9-4918-A79E-67743D03E8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6186-117F-4575-A272-5B51B0611D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979F-08C9-4EEF-A6C4-9DB391B01B9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2bd8"/>
                </a:solidFill>
                <a:latin typeface="Century Schoolbook"/>
              </a:rPr>
              <a:t>АМИНОКИСЛОТЫ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4829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кты, содержащие лиз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количество лизина содержат в себе следующие продукты: картофель, свинина, йогурт, соя, зародыши пшеницы, яичный белок, чечевица, орехи, рыба, мясо, молочные продук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астительных продуктах содержание лизина почти всегда ограничено, то есть даже малые количества лизина существенно повышают их пищевую ц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User\Desktop\валя\200px-Lysine.png"/>
          <p:cNvPicPr/>
          <p:nvPr/>
        </p:nvPicPr>
        <p:blipFill>
          <a:blip r:embed="rId1"/>
          <a:stretch/>
        </p:blipFill>
        <p:spPr>
          <a:xfrm>
            <a:off x="5500800" y="1071720"/>
            <a:ext cx="253980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71e5"/>
                </a:solidFill>
                <a:latin typeface="Century Schoolbook"/>
              </a:rPr>
              <a:t>АРГИНИН</a:t>
            </a:r>
            <a:br>
              <a:rPr sz="2700"/>
            </a:br>
            <a:endParaRPr b="0" lang="en-US" sz="49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74" name="Picture 2" descr="C:\Users\User\Desktop\валя\200px-L-arginine-3D-hztl.png"/>
          <p:cNvPicPr/>
          <p:nvPr/>
        </p:nvPicPr>
        <p:blipFill>
          <a:blip r:embed="rId1"/>
          <a:stretch/>
        </p:blipFill>
        <p:spPr>
          <a:xfrm>
            <a:off x="5214960" y="928800"/>
            <a:ext cx="3286080" cy="2466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User\Desktop\валя\200px-Arginine.png"/>
          <p:cNvPicPr/>
          <p:nvPr/>
        </p:nvPicPr>
        <p:blipFill>
          <a:blip r:embed="rId2"/>
          <a:stretch/>
        </p:blipFill>
        <p:spPr>
          <a:xfrm>
            <a:off x="785880" y="1071720"/>
            <a:ext cx="3071880" cy="40719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4286160" y="42861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, Arg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21840" y="535788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лярная масс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74,2 г/м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— условно-незаменимая аминокислота. У взрослого и здорового человека аргинин вырабатывается организмом в достаточном количестве. В то же время, у детей и подростков, у пожилых и больных людей уровень синтеза аргинина часто недостаточе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широко рекламируется как компонент БАД для бодибилдеров с целью улучшения питания мышц, и пожилых людей для улучшения эректильной функции. Так же массово применяется аргинин и в пищевых добавках, рекламируемых «в целях стимулирования иммунитет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Century Schoolbook"/>
              </a:rPr>
              <a:t>L-АРГИНИН ВСТРЕЧАЕТСЯ ВО МНОГИХ ПРОДУКТАХ ПИТАНИЯ, КАК ЖИВОТНОГО, ТАК И РАСТИТЕЛЬНОГО ПРОИСХОЖДЕНИЯ. В ТАБЛИЦЕ ПРИВЕДЕНЫ ДАННЫЕ ПО СОДЕРЖАНИЮ АРГИНИНА НА 100 ГРАММ ПРОДУКТА И УКАЗАНО СОДЕРЖАНИЕ БЕЛКА.</a:t>
            </a:r>
            <a:br>
              <a:rPr sz="2700"/>
            </a:br>
            <a:endParaRPr b="0" lang="en-US" sz="2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5688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одукт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           Белок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Аргинин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/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винина сыра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9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94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куриное филе 21,23 г 1436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8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филе лосос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42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21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риное яйцо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,57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20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5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ровье молоко,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,7 % жирност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28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119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едровы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69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1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цки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27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ыквенные семечк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0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535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шеничная мука г/п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70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4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4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курузная мука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9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45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ис нешлифован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94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0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чишный хлеб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2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98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4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орох суше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,5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18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,9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ргинин относится к разряду Аминокислот, которые вырабатываются в организме лишь при определённых условиях. При малейшей патологии организм не успевает справляться с производством Аргинина. И тогда его нужно принимать в виде лекарственных средств, или биологически активных доба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тский организм вообще не способен самостоятельно вырабатывать аргинин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дефиците Аргинина возникают такие заболевания: устойчивая гипертония, ослабление памяти, нервные и психические расстройства, ослабление иммунитета, сахарный диабет, злокачественные новообразования, функциональные расстройства половой системы вплоть до импотенции, заболевания внутренних органов, жировая инфильтрация печени, замедления роста и полового созревания, ожи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ГИСТИД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Петр\Desktop\Юля\презентация биохимия\гистидин\вид молекулы.png"/>
          <p:cNvPicPr/>
          <p:nvPr/>
        </p:nvPicPr>
        <p:blipFill>
          <a:blip r:embed="rId1"/>
          <a:stretch/>
        </p:blipFill>
        <p:spPr>
          <a:xfrm>
            <a:off x="755640" y="2637000"/>
            <a:ext cx="3016440" cy="310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:\Users\Петр\Desktop\Юля\презентация биохимия\гистидин\химическая формула.png"/>
          <p:cNvPicPr/>
          <p:nvPr/>
        </p:nvPicPr>
        <p:blipFill>
          <a:blip r:embed="rId2"/>
          <a:stretch/>
        </p:blipFill>
        <p:spPr>
          <a:xfrm>
            <a:off x="4788000" y="2349360"/>
            <a:ext cx="2755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7424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Century Schoolbook"/>
              </a:rPr>
              <a:t>ГИСТИДИ́Н (L-Α-АМИНО-Β-ИМИДАЗОЛИЛПРОПИОНОВАЯ КИСЛОТА) — ГЕТЕРОЦИКЛИЧЕСКАЯ АЛЬФА-АМИНОКИСЛОТ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, 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— АЛЬФА-АМИНОКИСЛОТА СО СЛАБЫМИ ОСНОВНЫМИ СВОЙСТВАМИ, ОБУСЛОВЛЕННЫМИ ПРИСУТСТВИЕМ В МОЛЕКУЛЕ ОСТАТКА ИМИДАЗОЛА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ОДЕРЖАНИЕ В ПРОДУКТАХ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ОМ БОГАТЫ ТАКИЕ ПРОДУКТЫ КАК ТУНЕЦ, ЛОСОСЬ, СВИНАЯ ВЫРЕЗКА, ГОВЯЖЬЕ ФИЛЕ, КУРИНЫЕ ГРУДКИ, СОЕВЫЕ БОБЫ, АРАХИС, ЧЕЧЕВИЦА. КРОМЕ ТОГО, ГИСТИДИН ВКЛЮЧАЕТСЯ В СОСТАВ МНОГИХ ВИТАМИННЫХ КОМПЛЕКСОВ И НЕКОТОРЫХ ДРУГИХ МЕДИКАМЕНТОВ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РОЛЬ В ОРГАНИЗМЕ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ВХОДИТ В СОСТАВ АКТИВНЫХ ЦЕНТРОВ МНОЖЕСТВА ФЕРМЕНТОВ, ЯВЛЯЕТСЯ ПРЕДШЕСТВЕННИКОМ В БИОСИНТЕЗЕ ГИСТАМИНА. ОДНА ИЗ «СУЩЕСТВЕННЫХ» АМИНОКИСЛОТ, СПОСОБСТВУЕТ РОСТУ И ВОССТАНОВЛЕНИЮ ТКАНЕЙ. В БОЛЬШОМ КОЛИЧЕСТВЕ СОДЕРЖИТСЯ В ГЕМОГЛОБИНЕ; ИСПОЛЬЗУЕТСЯ ПРИ ЛЕЧЕНИИ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РЕВМАТОИДНЫХ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АРТРИТОВ, АЛЛЕРГИЙ, ЯЗВ И АНЕМИИ. НЕДОСТАТОК ГИСТИДИНА МОЖЕТ ВЫЗВАТЬ ОСЛАБЛЕНИЕ СЛУХ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ИНТЕЗ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БИОСИНТЕЗ ГИСТИДИНА ОСУЩЕСТВЛЯЕТСЯ ИЗ 5-ФОСФОРИБОЗИЛ-1-ПИРОФОСФАТА С ИСПОЛЬЗОВАНИЕМ ФРАГМЕНТА АДЕНИНОВОГО КОЛЬЦА АТФ И АЗОТА ГЛУТАМИН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ФЕНИЛАЛАН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C:\Users\Петр\Desktop\Юля\презентация биохимия\фениланин\200px-L-phenylalanine-3D-sticks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321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Петр\Desktop\Юля\презентация биохимия\фениланин\200px-Phenylalanine.png"/>
          <p:cNvPicPr/>
          <p:nvPr/>
        </p:nvPicPr>
        <p:blipFill>
          <a:blip r:embed="rId2"/>
          <a:stretch/>
        </p:blipFill>
        <p:spPr>
          <a:xfrm>
            <a:off x="4788000" y="2349360"/>
            <a:ext cx="2827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́Н (Α-АМИНО-Β-ФЕНИЛПРОПИОНОВАЯ КИСЛОТА, СОКР.: ФЕН, PHE, F) 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— АРОМАТИЧЕСКАЯ АЛЬФА-АМИНОКИСЛОТА. СУЩЕСТВУЕТ В ДВУХ ОПТИЧЕСКИ ИЗОМЕРНЫХ ФОРМАХ — L И D И В ВИДЕ РАЦЕМАТА (DL). ПО ХИМИЧЕСКОМУ СТРОЕНИЮ СОЕДИНЕНИЕ МОЖНО ПРЕДСТАВИТЬ КАК АМИНОКИСЛОТУ АЛАНИН, В КОТОРОЙ ОДИН ИЗ АТОМОВ ВОДОРОДА ЗАМЕЩЁН ФЕНИЛЬНОЙ ГРУППОЙ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L-ФЕНИЛАЛАНИН ЯВЛЯЕТСЯ ПРОТЕИНОГЕННОЙ АМИНОКИСЛОТОЙ И ВХОДИТ В СОСТАВ БЕЛКОВ ВСЕХ ИЗВЕСТНЫХ ЖИВЫХ ОРГАНИЗМОВ. УЧАСТВУЯ В ГИДРОФОБНЫХ И СТЭКИНГ-ВЗАИМОДЕЙСТВИЯХ, ФЕНИЛАЛАНИН ИГРАЕТ ЗНАЧИТЕЛЬНУЮ РОЛЬ В ФОЛДИНГЕ И СТАБИЛИЗАЦИИ БЕЛКОВЫХ СТРУКТУР, ЯВЛЯЕТСЯ СОСТАВНОЙ ЧАСТЬЮ ФУНКЦИОНАЛЬНЫХ ЦЕНТР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РИ НАСЛЕДСТВЕННОМ ЗАБОЛЕВАНИИ </a:t>
            </a: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КЕТОНУРИИ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ПРЕВРАЩЕНИЕ ФЕНИЛАЛАНИНА В ТИРОЗИН НАРУШЕНО, И В ОРГАНИЗМЕ ПРОИСХОДИТ НАКОПЛЕНИЕ ФЕНИЛАЛАНИНА И ЕГО МЕТАБОЛИТОВ (ФЕНИЛПИРУВАТ, ФЕНИЛЛАКТАТ, ФЕНИЛАЦЕТАТ, ОРТО-ГИДРОКСИФЕНИЛАЦЕТАТ, ФЕНИЛАЦЕТИЛГЛУТАМИН), ИЗБЫТОЧНОЕ  КОТОРЫХ ОТРИЦАТЕЛЬНО СКАЗЫВАЕТСЯ НА РАЗВИТИИ НЕРВНОЙ СИСТЕМЫ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Н В ПРОМЫШЛЕННЫХ МАСШТАБАХ ПОЛУЧАЮТ МИКРОБИОЛОГИЧЕСКИМ СПОСОБОМ. ИСПОЛЬЗУЮТ ФЕНИЛАЛАНИН ДЛЯ СБАЛАНСИРОВАНИЯ КОРМОВ ДЛЯ ЖИВОТНЫХ, КАК КОМПОНЕНТ СПОРТИВНОГО ПИТАНИЯ. ЗНАЧИТЕЛЬНАЯ ЧАСТЬ ФЕНИЛАЛАНИНА ИДЁТ НА ПРОИЗВОДСТВО ДИПЕПТИДА АСПАРТАМА — СИНТЕТИЧЕСКОГО САХАРОЗАМЕНИТЕЛЯ, АКТИВНО ИСПОЛЬЗУЮЩЕГОСЯ В ПИЩЕВОЙ ПРОМЫШЛЕННОСТИ, ЧАЩЕ В ПРОИЗВОДСТВЕ ЖЕВАТЕЛЬНОЙ РЕЗИНКИ И ГАЗИРОВАННЫХ НАПИТКОВ. УПОТРЕБЛЕНИЕ ТАКИХ ПРОДУКТОВ ПРОТИВОПОКАЗАНО ЛИЦАМ, СТРАДАЮЩИМ ФЕНИЛКЕТОНУРИЕЙ.</a:t>
            </a: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ИРОЗ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C:\Users\Петр\Desktop\Юля\презентация биохимия\тирозин\200px-L-tyrosine-skeletal.png"/>
          <p:cNvPicPr/>
          <p:nvPr/>
        </p:nvPicPr>
        <p:blipFill>
          <a:blip r:embed="rId1"/>
          <a:stretch/>
        </p:blipFill>
        <p:spPr>
          <a:xfrm>
            <a:off x="4643280" y="2997360"/>
            <a:ext cx="3249720" cy="26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"/>
          <a:stretch/>
        </p:blipFill>
        <p:spPr>
          <a:xfrm>
            <a:off x="588960" y="2421000"/>
            <a:ext cx="3483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4003f"/>
                </a:solidFill>
                <a:latin typeface="Century Schoolbook"/>
              </a:rPr>
              <a:t>ГЛУТАМИНОВАЯ КИСЛОТА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3" name="Picture 3" descr="C:\Users\User\Desktop\валя\глутамин кислотаа.png"/>
          <p:cNvPicPr/>
          <p:nvPr/>
        </p:nvPicPr>
        <p:blipFill>
          <a:blip r:embed="rId1"/>
          <a:stretch/>
        </p:blipFill>
        <p:spPr>
          <a:xfrm>
            <a:off x="4143240" y="1714680"/>
            <a:ext cx="4000680" cy="350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Users\User\Desktop\валя\глуаминов кислота.png"/>
          <p:cNvPicPr/>
          <p:nvPr/>
        </p:nvPicPr>
        <p:blipFill>
          <a:blip r:embed="rId2"/>
          <a:stretch/>
        </p:blipFill>
        <p:spPr>
          <a:xfrm>
            <a:off x="642960" y="3643200"/>
            <a:ext cx="3143160" cy="20005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2928960" y="578628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кращения  Глу, Glu,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571680" y="2214720"/>
            <a:ext cx="35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олярная масса 147,13 г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ТИРОЗИ́Н (Α-АМИНО-Β-(П-ОКСИФЕНИЛ)ПРОПИОНОВАЯ КИСЛОТА, СОКР.: ТИР, TYR, Y) — АРОМАТИЧЕСКАЯ АЛЬФА-АМИНОКИСЛОТ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УЩЕСТВУЕТ В ДВУХ ОПТИЧЕСКИ ИЗОМЕРНЫХ ФОРМАХ — L И D И В ВИДЕ РАЦЕМАТА (DL). ПО СТРОЕНИЮ СОЕДИНЕНИЕ ОТЛИЧАЕТСЯ ОТ ФЕНИЛАЛАНИНА НАЛИЧИЕМ ФЕНОЛЬНОЙ ГИДРОКСИЛЬНОЙ ГРУППЫ В ПАРА-ПОЛОЖЕНИИ БЕНЗОЛЬНОГО КОЛЬЦА. ИЗВЕСТНЫ МЕНЕЕ ВАЖНЫЕ С БИОЛОГИЧЕСКОЙ ТОЧКИ ЗРЕНИЯ МЕТА- И ОРТО- ИЗОМЕРЫ 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ТИРОЗИН ВХОДИТ В СОСТАВ ФЕРМЕНТОВ, ВО МНОГИХ ИЗ КОТОРЫХ ИМЕННО ТИРОЗИНУ ОТВЕДЕНА КЛЮЧЕВАЯ РОЛЬ В ФЕРМЕНТАТИВНОЙ АКТИВНОСТИ И ЕЁ РЕГУЛЯЦИИ. МЕСТОМ АТАКИ ФОСФОРИЛИРУЮЩИХ ФЕРМЕНТОВ ПРОТЕИНКИНАЗ ЧАСТО ЯВЛЯЕТСЯ ИМЕННО ФЕНОЛЬНЫЙ ГИДРОКСИЛ ОСТАТКОВ ТИРОЗИНА. ОСТАТОК ТИРОЗИНА В СОСТАВЕ БЕЛКОВ МОЖЕТ ПОДВЕРГАТЬСЯ И ДРУГИМ ПОСТТРАНСЛЯЦИОННЫМ МОДИФИКАЦИЯМ. В НЕКОТОРЫХ БЕЛКАХ (РЕЗИЛИН НАСЕКОМЫХ) ПРИСУТСТВУЮТ МОЛЕКУЛЯРНЫЕ СШИВКИ, ВОЗНИКАЮЩИЕ В РЕЗУЛЬТАТЕ ПОСТТРАНСЛЯЦИОННОЙ ОКИСЛИТЕЛЬНОЙ КОНДЕНСАЦИИ ОСТАТКОВ ТИРОЗИНА С ОБРАЗОВАНИЕМ ДИТИРОЗИНА И ТРИ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ОКРАШИВАНИЕ В РЕЗУЛЬТАТЕ КСАНТОПРОТЕИНОВОЙ КАЧЕСТВЕННОЙ РЕАКЦИИ НА БЕЛКИ ОПРЕДЕЛЯЕТСЯ ПРЕИМУЩЕСТВЕННО НИТРОВАНИЕМ ОСТАТКОВ ТИРОЗИНА (НИТРУЮТСЯ ТАКЖЕ ОСТАТКИ ФЕНИЛАЛАНИНА, ТРИПТОФАНА, И ГИСТИДИНА)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ИЗВЕСТНО ТАКЖЕ НЕСКОЛЬКО ОТНОСИТЕЛЬНО РЕДКИХ ЗАБОЛЕВАНИЙ (ТИРОЗИНЕМИИ), ВЫЗВАННЫХ НАРУШЕНИЯМИ ОБМЕНА ТИРОЗИНА. ЛЕЧЕНИЕ ЭТИХ ЗАБОЛЕВАНИЙ, КАК И ФЕНИЛКЕТОНУРИИ — ДИЕТИЧЕСКОЕ ОГРАНИЧЕНИЕ 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БЕЛКА.</a:t>
            </a:r>
            <a:br>
              <a:rPr sz="1600"/>
            </a:b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РИПТОФА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C:\Users\Петр\Desktop\Юля\презентация биохимия\триптофан\200px-L-tryptophan-3D-sticks.png"/>
          <p:cNvPicPr/>
          <p:nvPr/>
        </p:nvPicPr>
        <p:blipFill>
          <a:blip r:embed="rId1"/>
          <a:stretch/>
        </p:blipFill>
        <p:spPr>
          <a:xfrm>
            <a:off x="611280" y="2637000"/>
            <a:ext cx="2868480" cy="331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Петр\Desktop\Юля\презентация биохимия\триптофан\200px-L-tryptophan.png"/>
          <p:cNvPicPr/>
          <p:nvPr/>
        </p:nvPicPr>
        <p:blipFill>
          <a:blip r:embed="rId2"/>
          <a:stretch/>
        </p:blipFill>
        <p:spPr>
          <a:xfrm>
            <a:off x="4716360" y="2637000"/>
            <a:ext cx="2814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ТРИПТОФА́Н —— (Β-ИНДОЛИЛАМИНОПРОПИОНОВАЯ, ИЛИ Α-2-АМИНО-3-(1H-ИНДОЛ-3-ИЛ)ПРОПИОНОВАЯ КИСЛОТА, СОКР.: ТРИ, ТРП, TRP, W) — </a:t>
            </a: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АРОМАТИЧЕСКАЯ АЛЬФА-АМИНОКИСЛОТА. СУЩЕСТВУЕТ В ДВУХ ОПТИЧЕСКИ ИЗОМЕРНЫХ ФОРМАХ — L И D И В ВИДЕ РАЦЕМАТА (DL).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L-ТРИПТОФАН ЯВЛЯЕТСЯ ПРОТЕИНОГЕННОЙ АМИНОКИСЛОТОЙ И ВХОДИТ В СОСТАВ БЕЛКОВ ВСЕХ ИЗВЕСТНЫХ ЖИВЫХ ОРГАНИЗМОВ. ОТНОСИТСЯ К РЯДУ ГИДРОФОБНЫХ АМИНОКИСЛОТ, ПОСКОЛЬКУ СОДЕРЖИТ АРОМАТИЧЕСКОЕ ЯДРО ИНДОЛА. УЧАСТВУЕТ В ГИДРОФОБНЫХ И СТЭКИНГ-ВЗАИМОДЕЙСТВИ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БИОСИНТЕЗ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В ПРИРОДЕ ТРИПТОФАН СИНТЕЗИРУЮТ МИКРООРГАНИЗМЫ, РАСТЕНИЯ И ГРИБЫ. МНОГОКЛЕТОЧНЫЕ ЖИВОТНЫЕ НЕ СПОСОБНЫ СИНТЕЗИРОВАТЬ ТРИПТОФАН DE NOVO. ДЛЯ ЧЕЛОВЕКА, КАК И ДЛЯ ВСЕХ METAZOA, ТРИПТОФАН ЯВЛЯЕТСЯ НЕЗАМЕНИМОЙ АМИНОКИСЛОТОЙ И ДОЛЖЕН ПОСТУПАТЬ В ОРГАНИЗМ В ДОСТАТОЧНОМ КОЛИЧЕСТВЕ С БЕЛКАМИ ПИЩИ.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99680" y="214200"/>
            <a:ext cx="7829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(2-аминопентандиовая кислота)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— алифатическая аминокислот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также является нейромедиаторной аминокислотой, одним из важных представителей класса «возбуждающих аминокислот». Связывание глутамата со специфическими рецепторами нейронов приводит к возбуждению последних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относится к условно незаменимым аминокислотам. Глутамат в норме синтезируется организмом. Присутствие в пище свободного глутамата придает ей так называемый «мясной» вкус, для чего глутамат используют как усилитель вкуса. При этом метаболизм природного глутамата и глутамата натрия синтетического, не отличаютс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Является одним из компонентов миофибрилл, участвует в синтезе других аминокислот, ацетилхолина, АТФ, мочевины, способствует переносу и поддержанию необходимой концентрации ионов калия в мозге, служит связующим звеном между обменом углеводов и нуклеиновых кислот, нормализует содержание показателей гликолиза в крови и тканях. Оказывает гепатопротекторное действие, угнетает секреторную функцию желуд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5995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005f"/>
                </a:solidFill>
                <a:latin typeface="Century Schoolbook"/>
              </a:rPr>
              <a:t>ГЛУТАМИН</a:t>
            </a:r>
            <a:endParaRPr b="0" lang="en-US" sz="6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61" name="Picture 1" descr="C:\Users\User\Desktop\валя\глутаимн.png"/>
          <p:cNvPicPr/>
          <p:nvPr/>
        </p:nvPicPr>
        <p:blipFill>
          <a:blip r:embed="rId1"/>
          <a:stretch/>
        </p:blipFill>
        <p:spPr>
          <a:xfrm>
            <a:off x="5286240" y="2428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357120" y="1643040"/>
            <a:ext cx="48578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е считается незаменимой аминокислотой, так как организм способен сам воспроизводить его. Тем не менее, глутамин может быть единственная важнейшая аминокислота, которая поддерживает анаболические процессы в мышцах и защищает организм от разрушительного влияния перетренированности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571680" y="3214800"/>
            <a:ext cx="45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тамин служит межорганным транспортером азота в организме. Примерно 1/3 всего азота транспортируется в крови в виде глутамина17. Большая часть азота, потребляемого мышцами, используется в мышечных клетках для синтеза глутамина, который является нетоксичным переносчиком аммония из периферических тканей к внутренним органам.  Глутамин – главный субстрат для синтеза мочевины в печени и аммониогенеза в поч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азано, что быстроделящиеся клетки, в том числе клет­ки слизистой оболочки кишки, поджелудочной железы, легочных альвеол и клетки иммунной системы, используют глутамин для энергетических и пластических нужд. Глутамин – главный источник энергии для клеток желудочно-кишечного 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ле длительного голодания, после хирургических вмешательств, ожогов, инфекций, панкреатита и при других критических состояниях внутримышечная концентрация глутамина снижается (в 2 раза и более), независимо от проведения стандартной нутриционной терап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нкая кишка – главный орган, потребляющий глутамин. При стрессе, использование глутамина кишкой возрастает, что усиливает его дефицит. Сегодня доказано, что глутамин – абсолютно необходимый субстрат для поддержания структуры и функции кишки 6,10, особенно при состояниях, когда происходит повреждение слизистой оболочки кишки, ухудшение барьерной функции и, следовательно, увеличение степени транслокации бактерий и токсинов в кровото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56390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5698"/>
                </a:solidFill>
                <a:latin typeface="Century Schoolbook"/>
              </a:rPr>
              <a:t>ЛИЗИН</a:t>
            </a:r>
            <a:endParaRPr b="0" lang="en-US" sz="59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532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незаменимая аминокислота. Лизин входит в состав практически всех белков, необходим организму человека для нормального роста, производства гормонов, антител, ферментов, а также для восстановления ткан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а аминокислота оказывает противовирусное действие, особенно в отношении вирусов, вызывающих острые респираторные инфекции. Рекомендуется сочетать лизин с витамином С при вирусных заболеваниях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Соединенных Штатах Америки и некоторых странах Европы для профилактики часто рецидивирующих форм генитального герпеса применяются биологически активные добавки к пище на основе лизина. Несколько десятилетий назад было замечено, что у некоторых людей, страдающих от герпеса, но соблюдавших определенную диету, рецидивы бывают реж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Users\User\Desktop\валя\leafandlysite.jpg"/>
          <p:cNvPicPr/>
          <p:nvPr/>
        </p:nvPicPr>
        <p:blipFill>
          <a:blip r:embed="rId1"/>
          <a:stretch/>
        </p:blipFill>
        <p:spPr>
          <a:xfrm>
            <a:off x="5857920" y="214200"/>
            <a:ext cx="2928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56760"/>
            <a:ext cx="80438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- это мощный источник энергии, так как он ускоряет процесс расщепления жиров, являющихся эффективным «топливом» для организма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длительном потреблении лизин не накапливается и не оказывает токсического воздействия на организм человека. Излишки выводятся почками с моч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ые эксперименты показали, что при длительном применении лизин обладает мягким антидепрессантным эффектом, также на фоне приёма лизина у некоторых людей прошли мучающие их головные боли, мигрени. Лизин не вызывает сонливости, снижения концентрации внимания и работоспособности, психической или физической зависимости. После приёма лизина вы можете спокойно водить автомоби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отив же, недостаток лизина в рационе питания может быть причиной повышенной утомляемости, тошноты, головокружения, вялости, пониженного аппетита, нервозности, появление сосудов на белочной оболочки глаза (симптом "красных глаз"), менструальной дисфункции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в сочетании с пролином и витамином С предупреждает образование липопротеинов, вызывающих закупорку артерий, следовательно, будет полезен при сердечно-сосудистых патологиях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улучшает усвоение кальция из крови и транспорт его в костную ткань, поэтому он может быть неотъемлемой частью программы лечения и профилактики остеопороз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58:54Z</dcterms:created>
  <dc:creator>User</dc:creator>
  <dc:description/>
  <dc:language>en-US</dc:language>
  <cp:lastModifiedBy>Admin</cp:lastModifiedBy>
  <dcterms:modified xsi:type="dcterms:W3CDTF">2012-02-03T13:56:20Z</dcterms:modified>
  <cp:revision>15</cp:revision>
  <dc:subject/>
  <dc:title>Аминокислоты</dc:title>
</cp:coreProperties>
</file>